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0F2-7781-4BE3-81C0-98456B02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7AC-E8E4-4832-84A6-3E3A9682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78FC-23B6-4AA0-B1A0-B4063B6F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E27-A682-43E1-B677-D24AD4EE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293D-0B81-40E2-A9F3-D5100A01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827F-7D02-4651-BC03-38AC1009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89F3-904B-4C42-B8A1-4F7B7B3D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CE2D-CF3E-45CC-9924-996FDE6F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4C96-141F-493E-A22F-F1EAB4DF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DD14-2C72-4118-A95C-10350C68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D009-5F03-4AD8-936C-762648AA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8C2-F983-41F8-8F1B-E69DF00F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7AA4-303D-4E52-97C8-9C005501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7703-AE42-409F-8318-F4A27EEE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9D49-F748-4FDD-9C6B-5299DCB6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469B-04FF-43EE-94B5-C179757B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0497-1253-433E-8672-C51C6AA1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296D8-1A77-4D4F-BFF2-881F3EB3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8BEBD-7563-439A-9008-109AA2A6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C4F48-53C1-452B-9862-26B37229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7F2F4-25E6-4748-8AE6-13ECA347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2E0B6-CA4A-485A-B968-ECA92DF5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2DF0-3CFA-476F-8C3A-3EAF06E1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86253-F300-41EA-A882-31719F98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A25CF-BCF8-4D24-AD05-E74DDB49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C665B-E9A8-4881-AF00-5393C2D7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0B499-7F10-4413-8C40-9088DBDF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4B4E6-73AF-4867-9758-FB15962C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A5396-99D3-4339-BE1A-FA7382DB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4875F-D611-4D45-9CC4-C61E4339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D92C7-C1E3-4757-9CE8-A14D93CC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7C4A9-DD7F-4172-B8DA-546DE412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D1D8F-CDAE-450A-9194-08A4CB10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E2E-19D4-4DA8-B9D8-C59B62B4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FE213-C8F8-44CC-A70A-709C7D5F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E7BA0-4DCE-4B0E-8A8D-A04EEC0B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96FAA-B5EB-433F-A843-A7F3EF66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A0D21-D5BA-423F-9E26-64A67178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EF1C5-6309-4479-B2F2-ED20E721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EABE2-AFBC-4E50-B624-584FBF4B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98F21-A826-4EE0-934D-CA765A78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78FC0-DE99-40F5-B156-12BDA799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A59DA-6F53-4771-93C6-1CF95769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EB5AC-2C3B-408E-A1ED-2004EB94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CE2-DADD-48D5-A9A2-582FBEBF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C46FE-C751-4FCB-9308-79138499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E20DC-89AF-43EB-B4AF-E427A7C0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C2D2F-5D44-4673-94E9-8685350E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38BF8-CC05-4BC1-A518-02F7A542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1DA7C-7BB4-47BD-A02B-B01C65C5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16C47-1968-4271-BA96-65776A8E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B7346-8704-4570-8DE4-9BE7D450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E85C0-522C-4A4D-9613-AF32B932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F40D5-2878-4DF8-83DD-FEE2641E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9D4F7-6658-494D-91F7-615CEDE4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F0E-FEFA-4DA8-8BAF-0E96FFD8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DC6D9-5572-474B-883C-329B96AD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29E57-8FAB-40E9-B7F0-E15D4270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7FEC1-B39D-43FC-B4BC-007940B8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1AF24-00C4-4E5C-98FF-BB41AD02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2C93C-FDB8-4C76-982C-1D4DB5E6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E16EF-7335-45EE-8AA3-0FD604A8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400F3-70D1-4A38-9E12-41BFC7B9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A1074-6DCF-4E53-A69D-A0A47437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CB6C0-A3DF-4107-A017-46E57DC2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10931-2D3A-4C1F-89AE-F8440A28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CE0-9B33-43F7-ADA6-8BE0E816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5E61C-9F2D-4227-9484-9BDDC0DF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1F24D-FCA7-4D8F-B8FE-6E6E64CB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5981F-6B86-4AC6-9103-1BB532F6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E0560-B08A-4251-A2F9-17607E44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7AE63-FA46-4347-A9C5-9E3F7FA4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64834-4C87-4685-BE80-4E739E2D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DE049-28AA-46C7-9347-9CE9A20A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5D0BE-A33F-4B26-AAD2-80E80F50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3F86E-012F-41D6-AB60-D2E17F7C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F14D6-6891-4DB2-A3E2-8184966F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E1CA-E430-49CD-AD1C-4AF9368C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6AED3-3E4F-4885-94AA-C646E6B6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ADA54-D93D-47D3-9E02-52804B0A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971B4-4261-4631-BF5F-14C30E05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4B95D-5D92-4292-B77C-5D60D4A4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91303-589F-4C06-A427-287748D1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AF72-D1D4-4E9E-8B83-CDBECB72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7BAB-7566-4AAD-8631-385A244773AB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0197-31A4-4F00-BA37-B7170E67F8C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0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08C6-31D0-404E-9885-84BF35A0AD01}" type="slidenum">
              <a:rPr b="0" lang="en-A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7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DC02-D08A-4974-B431-7BD97C7A6CBD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35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E93E-6306-478D-86F2-47D38C2CD03B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9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B261-00FB-4DB7-A697-9D31B160957F}" type="slidenum">
              <a:rPr b="0" lang="en-A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7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242C-21CD-4F4B-ACDE-7DB6BCA4229B}" type="slidenum">
              <a:rPr b="0" lang="en-A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eec94"/>
                </a:solidFill>
                <a:latin typeface="Times New Roman"/>
              </a:rPr>
              <a:t>The Endocrine Syst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This system controls many of the biochemical pathways that occur in your bod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The core tool used by the endocrine system is a compound called a </a:t>
            </a:r>
            <a:r>
              <a:rPr b="1" lang="en-AU" sz="2800" spc="-1" strike="noStrike">
                <a:solidFill>
                  <a:srgbClr val="00ff00"/>
                </a:solidFill>
                <a:latin typeface="Times New Roman"/>
              </a:rPr>
              <a:t>hormone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. Your body uses dozens of hormones to regulate your growth, digestion, body temperature, and glucose metabolism (to name a few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A hormone released by an endocrine gland can travel throughout the body and change the activity of cells from many other system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The endocrine system is also unique in that it uses glands and cells within organs that are all closely related to other system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easing and inhibiting hormones secreted by the hypothalamus control the anterior pituit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24000" y="285264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brain and anterior pituitary also produce endorph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"/>
          <p:cNvPicPr/>
          <p:nvPr/>
        </p:nvPicPr>
        <p:blipFill>
          <a:blip r:embed="rId1"/>
          <a:srcRect l="0" t="0" r="0" b="12000"/>
          <a:stretch/>
        </p:blipFill>
        <p:spPr>
          <a:xfrm>
            <a:off x="1600200" y="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3"/>
          <p:cNvSpPr/>
          <p:nvPr/>
        </p:nvSpPr>
        <p:spPr>
          <a:xfrm>
            <a:off x="6094440" y="533520"/>
            <a:ext cx="1310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urosecretor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1676520" y="2133720"/>
            <a:ext cx="11239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d ves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1676160" y="2625840"/>
            <a:ext cx="1683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ing hormon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hypothala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6020640" y="3387600"/>
            <a:ext cx="1665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ocrine cells o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anterior pitu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5666040" y="4086360"/>
            <a:ext cx="1572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tuitary 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1830240" y="5051520"/>
            <a:ext cx="4856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2745000" y="5051520"/>
            <a:ext cx="603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0"/>
          <p:cNvSpPr/>
          <p:nvPr/>
        </p:nvSpPr>
        <p:spPr>
          <a:xfrm>
            <a:off x="3735360" y="5051520"/>
            <a:ext cx="48564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S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1"/>
          <p:cNvSpPr/>
          <p:nvPr/>
        </p:nvSpPr>
        <p:spPr>
          <a:xfrm>
            <a:off x="4556160" y="5051520"/>
            <a:ext cx="83304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rmon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2"/>
          <p:cNvSpPr/>
          <p:nvPr/>
        </p:nvSpPr>
        <p:spPr>
          <a:xfrm>
            <a:off x="5563800" y="5051520"/>
            <a:ext cx="834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lact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R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6555600" y="5051520"/>
            <a:ext cx="10281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orph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4"/>
          <p:cNvSpPr/>
          <p:nvPr/>
        </p:nvSpPr>
        <p:spPr>
          <a:xfrm>
            <a:off x="1695960" y="5965920"/>
            <a:ext cx="7401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yr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5"/>
          <p:cNvSpPr/>
          <p:nvPr/>
        </p:nvSpPr>
        <p:spPr>
          <a:xfrm>
            <a:off x="2618640" y="5965920"/>
            <a:ext cx="7491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rena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6"/>
          <p:cNvSpPr/>
          <p:nvPr/>
        </p:nvSpPr>
        <p:spPr>
          <a:xfrm>
            <a:off x="3552840" y="5965920"/>
            <a:ext cx="860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es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7"/>
          <p:cNvSpPr/>
          <p:nvPr/>
        </p:nvSpPr>
        <p:spPr>
          <a:xfrm>
            <a:off x="4668480" y="5965920"/>
            <a:ext cx="6134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ir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8"/>
          <p:cNvSpPr/>
          <p:nvPr/>
        </p:nvSpPr>
        <p:spPr>
          <a:xfrm>
            <a:off x="5465880" y="5965920"/>
            <a:ext cx="11653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and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in mam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9"/>
          <p:cNvSpPr/>
          <p:nvPr/>
        </p:nvSpPr>
        <p:spPr>
          <a:xfrm>
            <a:off x="6612480" y="5965920"/>
            <a:ext cx="100368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eptor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the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0"/>
          <p:cNvSpPr/>
          <p:nvPr/>
        </p:nvSpPr>
        <p:spPr>
          <a:xfrm>
            <a:off x="5410080" y="457200"/>
            <a:ext cx="685800" cy="228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1"/>
          <p:cNvSpPr/>
          <p:nvPr/>
        </p:nvSpPr>
        <p:spPr>
          <a:xfrm>
            <a:off x="2743200" y="2286000"/>
            <a:ext cx="1752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2"/>
          <p:cNvSpPr/>
          <p:nvPr/>
        </p:nvSpPr>
        <p:spPr>
          <a:xfrm flipV="1">
            <a:off x="3352680" y="2437920"/>
            <a:ext cx="1143000" cy="304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23"/>
          <p:cNvSpPr/>
          <p:nvPr/>
        </p:nvSpPr>
        <p:spPr>
          <a:xfrm>
            <a:off x="3352680" y="2743200"/>
            <a:ext cx="1219320" cy="304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4"/>
          <p:cNvSpPr/>
          <p:nvPr/>
        </p:nvSpPr>
        <p:spPr>
          <a:xfrm>
            <a:off x="5181480" y="3429000"/>
            <a:ext cx="838440" cy="76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5"/>
          <p:cNvSpPr/>
          <p:nvPr/>
        </p:nvSpPr>
        <p:spPr>
          <a:xfrm flipV="1">
            <a:off x="5105520" y="3504960"/>
            <a:ext cx="914400" cy="75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26"/>
          <p:cNvSpPr/>
          <p:nvPr/>
        </p:nvSpPr>
        <p:spPr>
          <a:xfrm>
            <a:off x="4952880" y="3809880"/>
            <a:ext cx="762120" cy="38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7"/>
          <p:cNvSpPr/>
          <p:nvPr/>
        </p:nvSpPr>
        <p:spPr>
          <a:xfrm>
            <a:off x="4572000" y="3809880"/>
            <a:ext cx="1143000" cy="38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8"/>
          <p:cNvSpPr/>
          <p:nvPr/>
        </p:nvSpPr>
        <p:spPr>
          <a:xfrm>
            <a:off x="533520" y="6248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6.5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b9efee"/>
                </a:solidFill>
                <a:latin typeface="Garamond"/>
              </a:rPr>
              <a:t>Glands in the Endocrine syste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AU" sz="3200" spc="-1" strike="noStrike">
                <a:solidFill>
                  <a:srgbClr val="ffff00"/>
                </a:solidFill>
                <a:latin typeface="Garamond"/>
              </a:rPr>
              <a:t>Pituitary – The Master Gl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regulates many body activ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produces growth hormone and many ot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located at the base of the br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aramond"/>
              </a:rPr>
              <a:t>Posterior pituit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304920" y="1371600"/>
            <a:ext cx="8534160" cy="39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Composed of nervous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Stores and secretes hormones made in the hypothala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aramond"/>
              </a:rPr>
              <a:t>Anterior pitu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Composed of glandular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Exerts control over the anterior pituitary by secreting releasing hormones or inhibiting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b9efee"/>
                </a:solidFill>
                <a:latin typeface="Garamond"/>
              </a:rPr>
              <a:t>Glands in the Endocrine syste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AU" sz="3200" spc="-1" strike="noStrike">
                <a:solidFill>
                  <a:srgbClr val="ffff00"/>
                </a:solidFill>
                <a:latin typeface="Garamond"/>
              </a:rPr>
              <a:t>Thyroid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regulates metabolism and grow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produces thyrox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located base of the ne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b9efee"/>
                </a:solidFill>
                <a:latin typeface="Garamond"/>
              </a:rPr>
              <a:t>Glands in the Endocrine syste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AU" sz="3200" spc="-1" strike="noStrike">
                <a:solidFill>
                  <a:srgbClr val="ffff00"/>
                </a:solidFill>
                <a:latin typeface="Garamond"/>
              </a:rPr>
              <a:t>Adren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regulates metabolism and response to st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produces cortisol and adrenal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located above the kidne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b9efee"/>
                </a:solidFill>
                <a:latin typeface="Garamond"/>
              </a:rPr>
              <a:t>Glands in the Endocrine syste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AU" sz="3200" spc="-1" strike="noStrike">
                <a:solidFill>
                  <a:srgbClr val="ffff00"/>
                </a:solidFill>
                <a:latin typeface="Garamond"/>
              </a:rPr>
              <a:t>Pancre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regulates blood glucose concent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produces insulin and glucag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located near the stom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b9efee"/>
                </a:solidFill>
                <a:latin typeface="Garamond"/>
              </a:rPr>
              <a:t>Glands in the Endocrine syste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AU" sz="3200" spc="-1" strike="noStrike">
                <a:solidFill>
                  <a:srgbClr val="ffff00"/>
                </a:solidFill>
                <a:latin typeface="Garamond"/>
              </a:rPr>
              <a:t>Testes and Ova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regulates fertility and secondary sex characte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produces testosterone (Testes), progesterone and oestrogens (Ovari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228600" y="6172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26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rcRect l="0" t="0" r="0" b="3942"/>
          <a:stretch/>
        </p:blipFill>
        <p:spPr>
          <a:xfrm>
            <a:off x="190440" y="457200"/>
            <a:ext cx="87631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228600" y="61722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26.3,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1"/>
          <a:srcRect l="0" t="0" r="0" b="4052"/>
          <a:stretch/>
        </p:blipFill>
        <p:spPr>
          <a:xfrm>
            <a:off x="228600" y="314280"/>
            <a:ext cx="868680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dbbd71"/>
                </a:solidFill>
                <a:latin typeface="Arial"/>
              </a:rPr>
              <a:t>Hormon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chemicals produced in endocrine gla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help maintain homeosta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transported to other parts of the body through the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loodstre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act on other organs and tissues of the bo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secreted directly into the bloodstre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only act on cells that have particular receptors for that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orm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dbbd71"/>
                </a:solidFill>
                <a:latin typeface="Arial"/>
              </a:rPr>
              <a:t>Hormon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- respond to vital changes to the internal environment of cel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- information about the direction of change is transported to other parts of the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- messages lead to a change in the vital factor (reverse to the initial one) to restore normal range NEGATIVE FEEDBACK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2362320" y="0"/>
            <a:ext cx="4975200" cy="6400800"/>
          </a:xfrm>
          <a:prstGeom prst="rect">
            <a:avLst/>
          </a:prstGeom>
          <a:ln w="0">
            <a:noFill/>
          </a:ln>
        </p:spPr>
      </p:pic>
      <p:sp>
        <p:nvSpPr>
          <p:cNvPr id="434" name="Line 3"/>
          <p:cNvSpPr/>
          <p:nvPr/>
        </p:nvSpPr>
        <p:spPr>
          <a:xfrm>
            <a:off x="4495680" y="304920"/>
            <a:ext cx="114300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3123720" y="152280"/>
            <a:ext cx="1406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3122280" y="609480"/>
            <a:ext cx="1230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neal g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3121560" y="990720"/>
            <a:ext cx="1419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1903680" y="144792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yroid g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1902240" y="1752480"/>
            <a:ext cx="1794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athyroid gl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1905840" y="2286000"/>
            <a:ext cx="861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ym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1903320" y="2666880"/>
            <a:ext cx="14670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renal gland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top kidney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1905120" y="3733920"/>
            <a:ext cx="973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1902600" y="4800600"/>
            <a:ext cx="142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vary (fema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3"/>
          <p:cNvSpPr/>
          <p:nvPr/>
        </p:nvSpPr>
        <p:spPr>
          <a:xfrm>
            <a:off x="1902600" y="5486400"/>
            <a:ext cx="1271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is (ma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"/>
          <p:cNvSpPr/>
          <p:nvPr/>
        </p:nvSpPr>
        <p:spPr>
          <a:xfrm flipV="1">
            <a:off x="4343400" y="685800"/>
            <a:ext cx="1143000" cy="76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5"/>
          <p:cNvSpPr/>
          <p:nvPr/>
        </p:nvSpPr>
        <p:spPr>
          <a:xfrm flipV="1">
            <a:off x="4495680" y="837720"/>
            <a:ext cx="1143000" cy="304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6"/>
          <p:cNvSpPr/>
          <p:nvPr/>
        </p:nvSpPr>
        <p:spPr>
          <a:xfrm>
            <a:off x="3276720" y="1600200"/>
            <a:ext cx="21333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7"/>
          <p:cNvSpPr/>
          <p:nvPr/>
        </p:nvSpPr>
        <p:spPr>
          <a:xfrm flipV="1">
            <a:off x="3657600" y="1676160"/>
            <a:ext cx="1752480" cy="228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8"/>
          <p:cNvSpPr/>
          <p:nvPr/>
        </p:nvSpPr>
        <p:spPr>
          <a:xfrm flipV="1">
            <a:off x="3657600" y="1828800"/>
            <a:ext cx="1752480" cy="76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9"/>
          <p:cNvSpPr/>
          <p:nvPr/>
        </p:nvSpPr>
        <p:spPr>
          <a:xfrm>
            <a:off x="2743200" y="2438280"/>
            <a:ext cx="2743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0"/>
          <p:cNvSpPr/>
          <p:nvPr/>
        </p:nvSpPr>
        <p:spPr>
          <a:xfrm>
            <a:off x="3352680" y="2819520"/>
            <a:ext cx="2438640" cy="685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1"/>
          <p:cNvSpPr/>
          <p:nvPr/>
        </p:nvSpPr>
        <p:spPr>
          <a:xfrm>
            <a:off x="3352680" y="2819520"/>
            <a:ext cx="190512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2"/>
          <p:cNvSpPr/>
          <p:nvPr/>
        </p:nvSpPr>
        <p:spPr>
          <a:xfrm flipV="1">
            <a:off x="2843280" y="3886200"/>
            <a:ext cx="2643120" cy="47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3"/>
          <p:cNvSpPr/>
          <p:nvPr/>
        </p:nvSpPr>
        <p:spPr>
          <a:xfrm>
            <a:off x="3276720" y="4952880"/>
            <a:ext cx="19047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4"/>
          <p:cNvSpPr/>
          <p:nvPr/>
        </p:nvSpPr>
        <p:spPr>
          <a:xfrm>
            <a:off x="3124080" y="5638680"/>
            <a:ext cx="25146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5"/>
          <p:cNvSpPr/>
          <p:nvPr/>
        </p:nvSpPr>
        <p:spPr>
          <a:xfrm>
            <a:off x="1905120" y="6172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6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6"/>
          <p:cNvSpPr/>
          <p:nvPr/>
        </p:nvSpPr>
        <p:spPr>
          <a:xfrm>
            <a:off x="3425760" y="6093000"/>
            <a:ext cx="56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Glands of the Endocri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2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2498760" y="1676520"/>
            <a:ext cx="4130640" cy="426708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14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ostasis is maintained by negative-feedback mechanisms coupled with environmental c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2498760" y="6172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6.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2734920" y="2001960"/>
            <a:ext cx="1406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3719880" y="2590920"/>
            <a:ext cx="5450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2629080" y="3220920"/>
            <a:ext cx="1628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erior pituit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3704040" y="3886200"/>
            <a:ext cx="535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3021120" y="4516560"/>
            <a:ext cx="8330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y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0"/>
          <p:cNvSpPr/>
          <p:nvPr/>
        </p:nvSpPr>
        <p:spPr>
          <a:xfrm>
            <a:off x="2916000" y="5638680"/>
            <a:ext cx="10310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yrox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1"/>
          <p:cNvSpPr/>
          <p:nvPr/>
        </p:nvSpPr>
        <p:spPr>
          <a:xfrm>
            <a:off x="5316840" y="2971800"/>
            <a:ext cx="982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Inhib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b9efee"/>
                </a:solidFill>
                <a:latin typeface="Garamond"/>
              </a:rPr>
              <a:t>Glands in the Endocrine syste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AU" sz="3200" spc="-1" strike="noStrike">
                <a:solidFill>
                  <a:srgbClr val="ffff00"/>
                </a:solidFill>
                <a:latin typeface="Garamond"/>
              </a:rPr>
              <a:t>Hypothala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regulates many body activ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produces many hormon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located at the base of the br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"/>
          <p:cNvPicPr/>
          <p:nvPr/>
        </p:nvPicPr>
        <p:blipFill>
          <a:blip r:embed="rId1"/>
          <a:srcRect l="0" t="0" r="0" b="4493"/>
          <a:stretch/>
        </p:blipFill>
        <p:spPr>
          <a:xfrm>
            <a:off x="990720" y="3429000"/>
            <a:ext cx="7173720" cy="30402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266760" y="1218960"/>
            <a:ext cx="8610480" cy="20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hypothalamus is the master control center of the endocrine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regulates the posterior and anterior pituitary gl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266760" y="763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63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Garamond"/>
              </a:rPr>
              <a:t>The hypothalamus, closely tied to the pituitary, connects the nervous and endocrine systems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609480" y="6172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6.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7"/>
          <p:cNvSpPr/>
          <p:nvPr/>
        </p:nvSpPr>
        <p:spPr>
          <a:xfrm>
            <a:off x="1600200" y="3657600"/>
            <a:ext cx="609480" cy="6094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962640" y="3505320"/>
            <a:ext cx="636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9"/>
          <p:cNvSpPr/>
          <p:nvPr/>
        </p:nvSpPr>
        <p:spPr>
          <a:xfrm>
            <a:off x="6629400" y="4363920"/>
            <a:ext cx="1447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0"/>
          <p:cNvSpPr/>
          <p:nvPr/>
        </p:nvSpPr>
        <p:spPr>
          <a:xfrm>
            <a:off x="6248520" y="3962520"/>
            <a:ext cx="533160" cy="3808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2362320" y="5430960"/>
            <a:ext cx="1752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erior pituit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2"/>
          <p:cNvSpPr/>
          <p:nvPr/>
        </p:nvSpPr>
        <p:spPr>
          <a:xfrm flipV="1">
            <a:off x="4038480" y="5257440"/>
            <a:ext cx="1524240" cy="3049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3"/>
          <p:cNvSpPr/>
          <p:nvPr/>
        </p:nvSpPr>
        <p:spPr>
          <a:xfrm>
            <a:off x="2362320" y="5791320"/>
            <a:ext cx="1752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4"/>
          <p:cNvSpPr/>
          <p:nvPr/>
        </p:nvSpPr>
        <p:spPr>
          <a:xfrm>
            <a:off x="2362320" y="6095880"/>
            <a:ext cx="1752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erior pituit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5"/>
          <p:cNvSpPr/>
          <p:nvPr/>
        </p:nvSpPr>
        <p:spPr>
          <a:xfrm flipV="1">
            <a:off x="2971800" y="5638320"/>
            <a:ext cx="1600200" cy="3049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6"/>
          <p:cNvSpPr/>
          <p:nvPr/>
        </p:nvSpPr>
        <p:spPr>
          <a:xfrm flipV="1">
            <a:off x="3962520" y="5866920"/>
            <a:ext cx="2361960" cy="381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66760" y="1143000"/>
            <a:ext cx="861048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urosecretory cells extending from the hypothalamus into the posterior pituit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nthesize oxytocin and antidiuretic hormone (ADH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mit nerve signals that trigger oxytocin and ADH release from the posterior pituit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266760" y="763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63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Garamond"/>
              </a:rPr>
              <a:t>The hypothalamus and pituitary have multiple endocrine functions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rcRect l="0" t="0" r="0" b="10001"/>
          <a:stretch/>
        </p:blipFill>
        <p:spPr>
          <a:xfrm>
            <a:off x="2819520" y="152280"/>
            <a:ext cx="4198680" cy="6096240"/>
          </a:xfrm>
          <a:prstGeom prst="rect">
            <a:avLst/>
          </a:prstGeom>
          <a:ln w="0">
            <a:noFill/>
          </a:ln>
        </p:spPr>
      </p:pic>
      <p:sp>
        <p:nvSpPr>
          <p:cNvPr id="489" name="Line 3"/>
          <p:cNvSpPr/>
          <p:nvPr/>
        </p:nvSpPr>
        <p:spPr>
          <a:xfrm flipV="1">
            <a:off x="3805200" y="1295280"/>
            <a:ext cx="1523880" cy="533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4262760" y="401760"/>
            <a:ext cx="1232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1371600" y="6278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6.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2584440" y="1676520"/>
            <a:ext cx="1310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urosecretor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587320" y="2333520"/>
            <a:ext cx="849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rm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2586240" y="3124080"/>
            <a:ext cx="851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teri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tu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3423240" y="3962520"/>
            <a:ext cx="6501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s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6145200" y="4038480"/>
            <a:ext cx="782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ri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tu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5046480" y="5105520"/>
            <a:ext cx="5097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3060000" y="6130800"/>
            <a:ext cx="1428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terine 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mm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3"/>
          <p:cNvSpPr/>
          <p:nvPr/>
        </p:nvSpPr>
        <p:spPr>
          <a:xfrm>
            <a:off x="4586040" y="6130800"/>
            <a:ext cx="1275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idney 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4"/>
          <p:cNvSpPr/>
          <p:nvPr/>
        </p:nvSpPr>
        <p:spPr>
          <a:xfrm>
            <a:off x="3349080" y="5105520"/>
            <a:ext cx="8344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xytoc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5"/>
          <p:cNvSpPr/>
          <p:nvPr/>
        </p:nvSpPr>
        <p:spPr>
          <a:xfrm flipV="1">
            <a:off x="3424320" y="2209320"/>
            <a:ext cx="1523880" cy="228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6"/>
          <p:cNvSpPr/>
          <p:nvPr/>
        </p:nvSpPr>
        <p:spPr>
          <a:xfrm>
            <a:off x="3424320" y="3276720"/>
            <a:ext cx="9903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7"/>
          <p:cNvSpPr/>
          <p:nvPr/>
        </p:nvSpPr>
        <p:spPr>
          <a:xfrm flipV="1">
            <a:off x="4033800" y="3962160"/>
            <a:ext cx="609480" cy="152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8"/>
          <p:cNvSpPr/>
          <p:nvPr/>
        </p:nvSpPr>
        <p:spPr>
          <a:xfrm>
            <a:off x="5481720" y="373392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03:27:51Z</dcterms:created>
  <dc:creator>Lyn Clarkson</dc:creator>
  <dc:description/>
  <dc:language>en-US</dc:language>
  <cp:lastModifiedBy>Lyn Clarkson</cp:lastModifiedBy>
  <dcterms:modified xsi:type="dcterms:W3CDTF">2009-07-17T00:55:22Z</dcterms:modified>
  <cp:revision>12</cp:revision>
  <dc:subject/>
  <dc:title>Slide 1</dc:title>
</cp:coreProperties>
</file>